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4D4-2BA2-4882-A697-653457EB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C35-8E29-4754-8EFB-71C42E8C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87C-4110-430F-B850-A9568979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9BD-AFFB-4E51-8139-9D00244B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6CF-1835-496B-AAA4-DF5BF2C2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C15-98DA-4A3A-BF66-AD417AF3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D96-50A7-478D-B6A8-69596633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161-A748-4BA0-BCFE-A80C356F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DC2-BDBE-479E-B32D-FDDFBB3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E2B-FE95-41DA-91D0-3F82EAB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AFB-B147-49E3-9995-60CE9B0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51F-09A7-4840-A554-2A06FA2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C42-7360-4DF0-8B3F-CCAAA74D3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nish_american_w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itannic Bold"/>
              </a:rPr>
              <a:t>Spanish 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 Splendid Littl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091320" y="342900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Bradley Hand ITC"/>
              </a:rPr>
              <a:t>April 25-August 12, 1898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320" y="304920"/>
            <a:ext cx="89913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Comic Sans MS"/>
              </a:rPr>
              <a:t>The Spanish-American War (1898):</a:t>
            </a:r>
            <a:br>
              <a:rPr sz="3800"/>
            </a:br>
            <a:r>
              <a:rPr b="1" i="1" lang="en-US" sz="3800" spc="-1" strike="noStrike">
                <a:solidFill>
                  <a:srgbClr val="ffff66"/>
                </a:solidFill>
                <a:latin typeface="Comic Sans MS"/>
              </a:rPr>
              <a:t>“Philippine Aren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h20_03"/>
          <p:cNvPicPr/>
          <p:nvPr/>
        </p:nvPicPr>
        <p:blipFill>
          <a:blip r:embed="rId1">
            <a:lum contrast="6000"/>
          </a:blip>
          <a:srcRect l="50871" t="20251" r="0" b="0"/>
          <a:stretch/>
        </p:blipFill>
        <p:spPr>
          <a:xfrm>
            <a:off x="1981080" y="1752480"/>
            <a:ext cx="5334120" cy="4743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urlz MT"/>
              </a:rPr>
              <a:t>Spanish American War--Philipp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mmodo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eorge Dewey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and Filipino revolutionary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ed by Emilio Aquinaldo,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am up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ake out the Spanish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e Americans then turn on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volutionaries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(Why? For a place to set up business/trade and a refueling station for the Nav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Dewey Captures Mani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newspaper"/>
          <p:cNvPicPr/>
          <p:nvPr/>
        </p:nvPicPr>
        <p:blipFill>
          <a:blip r:embed="rId1"/>
          <a:srcRect l="0" t="2196" r="0" b="3763"/>
          <a:stretch/>
        </p:blipFill>
        <p:spPr>
          <a:xfrm>
            <a:off x="3886200" y="1219320"/>
            <a:ext cx="5048280" cy="525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8" name="Picture 4" descr="Dewey at Manila"/>
          <p:cNvPicPr/>
          <p:nvPr/>
        </p:nvPicPr>
        <p:blipFill>
          <a:blip r:embed="rId2">
            <a:lum contrast="6000"/>
          </a:blip>
          <a:srcRect l="0" t="0" r="0" b="4615"/>
          <a:stretch/>
        </p:blipFill>
        <p:spPr>
          <a:xfrm>
            <a:off x="152280" y="1371600"/>
            <a:ext cx="3524400" cy="4724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Results of the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reaty of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aris 1898 </a:t>
            </a: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ends the war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1. The United States emerged a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RLD POWER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ub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 gain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dependence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 from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3. The United States gained possession of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hilippines, Guam, and Puerto Rico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28600" y="196920"/>
            <a:ext cx="87631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Comic Sans MS"/>
              </a:rPr>
              <a:t>The Spanish-American War (1898):</a:t>
            </a:r>
            <a:br>
              <a:rPr sz="3800"/>
            </a:br>
            <a:r>
              <a:rPr b="1" i="1" lang="en-US" sz="3800" spc="-1" strike="noStrike">
                <a:solidFill>
                  <a:srgbClr val="ffff66"/>
                </a:solidFill>
                <a:latin typeface="Comic Sans MS"/>
              </a:rPr>
              <a:t>“That Splendid Little War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h20_03"/>
          <p:cNvPicPr/>
          <p:nvPr/>
        </p:nvPicPr>
        <p:blipFill>
          <a:blip r:embed="rId1">
            <a:lum contrast="6000"/>
          </a:blip>
          <a:srcRect l="0" t="20251" r="50062" b="0"/>
          <a:stretch/>
        </p:blipFill>
        <p:spPr>
          <a:xfrm>
            <a:off x="2209680" y="1724040"/>
            <a:ext cx="4648320" cy="4067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Reasons for the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tection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of America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usiness interests 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in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American support of Cuban rebels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ain independence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from 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Rising tensions as a result of the sinking of the U.S.S. Maine in Havana Har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Exaggerated news reports of event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ellow Journalism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5486040"/>
            <a:ext cx="4038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urlz MT"/>
              </a:rPr>
              <a:t>Spanish American War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America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overnment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remain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utral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(until the </a:t>
            </a:r>
            <a:r>
              <a:rPr b="0" i="1" lang="en-US" sz="3200" spc="-1" strike="noStrike">
                <a:solidFill>
                  <a:srgbClr val="ffff66"/>
                </a:solidFill>
                <a:latin typeface="Comic Sans MS"/>
              </a:rPr>
              <a:t>Maine 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incid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Public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upported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Cuban rebels (openl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gun smugg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ellow Journalism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(exaggeration to    attract read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urlz MT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ewspapers, competing for sal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ggerated stories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of the horrors of Cuban life under oppressive Spanish ru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ournal"/>
          <p:cNvPicPr/>
          <p:nvPr/>
        </p:nvPicPr>
        <p:blipFill>
          <a:blip r:embed="rId1">
            <a:lum bright="-6000"/>
          </a:blip>
          <a:srcRect l="0" t="0" r="0" b="74042"/>
          <a:stretch/>
        </p:blipFill>
        <p:spPr>
          <a:xfrm>
            <a:off x="304920" y="3429000"/>
            <a:ext cx="8534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66"/>
                </a:solidFill>
                <a:latin typeface="Curlz MT"/>
              </a:rPr>
              <a:t>Ma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  battleship was sent to Cuba to show American concern over Spanish actions 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ppor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or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uba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reb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Maine had been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vana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Harbor three wee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ne night the battleship blew up &amp; sank, killing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6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n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American press immediatel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lamed the Spanish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, though there was no evidence that the Spanish were respon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esident William McKinley was pressured by Congress into asking for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laration of war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lowup"/>
          <p:cNvPicPr/>
          <p:nvPr/>
        </p:nvPicPr>
        <p:blipFill>
          <a:blip r:embed="rId1"/>
          <a:stretch/>
        </p:blipFill>
        <p:spPr>
          <a:xfrm>
            <a:off x="5791320" y="15228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lowup"/>
          <p:cNvPicPr/>
          <p:nvPr/>
        </p:nvPicPr>
        <p:blipFill>
          <a:blip r:embed="rId2"/>
          <a:stretch/>
        </p:blipFill>
        <p:spPr>
          <a:xfrm>
            <a:off x="457200" y="152280"/>
            <a:ext cx="3048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Remember the Maine</a:t>
            </a:r>
            <a:br>
              <a:rPr sz="4400"/>
            </a:b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and to H**l with Sp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funeral for Maine victims in Hava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3755880"/>
            <a:ext cx="3733560" cy="28022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4191120" y="5715000"/>
            <a:ext cx="35049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Funeral for </a:t>
            </a: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Maine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victims in Hav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USS Main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828800" y="1676520"/>
            <a:ext cx="3429000" cy="189072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pic>
        <p:nvPicPr>
          <p:cNvPr id="63" name="Picture 6" descr="pol_cartoon-Spanish Ape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638680" y="2209680"/>
            <a:ext cx="3203640" cy="327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Picture 7" descr="Remember the Maine button"/>
          <p:cNvPicPr/>
          <p:nvPr/>
        </p:nvPicPr>
        <p:blipFill>
          <a:blip r:embed="rId4"/>
          <a:stretch/>
        </p:blipFill>
        <p:spPr>
          <a:xfrm rot="21350400">
            <a:off x="7162920" y="228240"/>
            <a:ext cx="1587240" cy="1708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 rot="20950800">
            <a:off x="22860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Yellow 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urlz MT"/>
              </a:rPr>
              <a:t>Spanish American War---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Rough Riders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ners, law officers and cowboys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(Teddy Roosevel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ffalo Soldiers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frican American Army Cavalry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regiment sent to help the American war efforts in Cu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ase fire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was agreed 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gust 12, 18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172200" y="565200"/>
            <a:ext cx="26668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he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“Rough Rid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Rough Riders"/>
          <p:cNvPicPr/>
          <p:nvPr/>
        </p:nvPicPr>
        <p:blipFill>
          <a:blip r:embed="rId1"/>
          <a:stretch/>
        </p:blipFill>
        <p:spPr>
          <a:xfrm>
            <a:off x="152280" y="228600"/>
            <a:ext cx="6248520" cy="395460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pic>
        <p:nvPicPr>
          <p:cNvPr id="70" name="Picture 6" descr="Rough Rider ptg"/>
          <p:cNvPicPr/>
          <p:nvPr/>
        </p:nvPicPr>
        <p:blipFill>
          <a:blip r:embed="rId2"/>
          <a:stretch/>
        </p:blipFill>
        <p:spPr>
          <a:xfrm>
            <a:off x="3733920" y="4038480"/>
            <a:ext cx="5140080" cy="26654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sp>
        <p:nvSpPr>
          <p:cNvPr id="71" name="Text Box 5"/>
          <p:cNvSpPr/>
          <p:nvPr/>
        </p:nvSpPr>
        <p:spPr>
          <a:xfrm>
            <a:off x="152280" y="4800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2:34:51Z</dcterms:created>
  <dc:creator>Virginia Beach City Public Schools</dc:creator>
  <dc:description/>
  <dc:language>en-US</dc:language>
  <cp:lastModifiedBy>Vickie J. Dean</cp:lastModifiedBy>
  <dcterms:modified xsi:type="dcterms:W3CDTF">2014-11-19T20:05:17Z</dcterms:modified>
  <cp:revision>41</cp:revision>
  <dc:subject/>
  <dc:title>Spanish American War</dc:title>
</cp:coreProperties>
</file>